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.wmf" ContentType="image/x-wmf"/>
  <Override PartName="/ppt/media/WHOOSH.WAV" ContentType="audio/x-wav"/>
  <Override PartName="/ppt/media/image16.wmf" ContentType="image/x-wmf"/>
  <Override PartName="/ppt/media/DRIVEBY.WAV" ContentType="audio/x-wav"/>
  <Override PartName="/ppt/media/image11.wmf" ContentType="image/x-wmf"/>
  <Override PartName="/ppt/media/image4.wmf" ContentType="image/x-wmf"/>
  <Override PartName="/ppt/media/EXPLODE.WAV" ContentType="audio/x-wav"/>
  <Override PartName="/ppt/media/LASER.WAV" ContentType="audio/x-wav"/>
  <Override PartName="/ppt/media/image14.wmf" ContentType="image/x-wmf"/>
  <Override PartName="/ppt/media/CAMERA.WAV" ContentType="audio/x-wav"/>
  <Override PartName="/ppt/media/CASHREG.WAV" ContentType="audio/x-wav"/>
  <Override PartName="/ppt/media/image1.wmf" ContentType="image/x-wmf"/>
  <Override PartName="/ppt/media/image17.wmf" ContentType="image/x-wmf"/>
  <Override PartName="/ppt/media/image15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9.wmf" ContentType="image/x-wmf"/>
  <Override PartName="/ppt/media/image2.wmf" ContentType="image/x-wmf"/>
  <Override PartName="/ppt/media/image3.wmf" ContentType="image/x-wmf"/>
  <Override PartName="/ppt/media/image18.wmf" ContentType="image/x-wmf"/>
  <Override PartName="/ppt/media/CHIMES.WAV" ContentType="audio/x-wav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992-8EFB-4C2E-A10D-55FDA7D4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DE4-561E-4C8D-95A4-58953757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D2E-582B-475D-AA6D-07B9E1A3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B2A-5FCF-4C54-A1D7-B92F5599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BDF-1B4C-426A-B880-7C2F1619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4E6-4D15-43CC-BC3D-8D352620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EF4-5930-4950-8E83-04B7B4F8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BB7-DE95-45F7-A64A-8F3E9A4F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090-8FFE-4C76-A355-5C482C47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3C4-E3A4-4EAC-83D9-CA78111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3DA-6F55-4C46-B0D2-209A328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844-22D6-4A2A-932C-790737C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CFE0-C94F-419D-8735-3A01CCE6F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CHIMES.WAV"/><Relationship Id="rId8" Type="http://schemas.openxmlformats.org/officeDocument/2006/relationships/audio" Target="../media/CASHREG.WAV"/><Relationship Id="rId9" Type="http://schemas.openxmlformats.org/officeDocument/2006/relationships/audio" Target="../media/CAMERA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audio" Target="../media/EXPLODE.WAV"/><Relationship Id="rId14" Type="http://schemas.openxmlformats.org/officeDocument/2006/relationships/audio" Target="../media/DRIVEBY.WAV"/><Relationship Id="rId15" Type="http://schemas.openxmlformats.org/officeDocument/2006/relationships/audio" Target="../media/EXPLODE.WAV"/><Relationship Id="rId16" Type="http://schemas.openxmlformats.org/officeDocument/2006/relationships/audio" Target="../media/CAMERA.WAV"/><Relationship Id="rId17" Type="http://schemas.openxmlformats.org/officeDocument/2006/relationships/audio" Target="../media/DRIVEBY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EXPLODE.WAV"/><Relationship Id="rId21" Type="http://schemas.openxmlformats.org/officeDocument/2006/relationships/audio" Target="../media/DRIVEBY.WAV"/><Relationship Id="rId22" Type="http://schemas.openxmlformats.org/officeDocument/2006/relationships/audio" Target="../media/EXPLODE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EXPLODE.WAV"/><Relationship Id="rId12" Type="http://schemas.openxmlformats.org/officeDocument/2006/relationships/audio" Target="../media/CAMERA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EXPLODE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EXPLODE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DRIVEBY.WAV"/><Relationship Id="rId15" Type="http://schemas.openxmlformats.org/officeDocument/2006/relationships/audio" Target="../media/LASER.WAV"/><Relationship Id="rId16" Type="http://schemas.openxmlformats.org/officeDocument/2006/relationships/audio" Target="../media/WHOOSH.WAV"/><Relationship Id="rId17" Type="http://schemas.openxmlformats.org/officeDocument/2006/relationships/audio" Target="../media/EXPLODE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EXPLODE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CASHREG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audio" Target="../media/CASHREG.WAV"/><Relationship Id="rId16" Type="http://schemas.openxmlformats.org/officeDocument/2006/relationships/audio" Target="../media/CHIMES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DRIVEBY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CHIMES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EXPLODE.WAV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22860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l    l    l    l    l    l    l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971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-7   -6  -5  -4   -3   -2  -1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295280"/>
          <a:ext cx="19432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1943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609480" y="1905120"/>
            <a:ext cx="2667240" cy="459720"/>
            <a:chOff x="609480" y="1905120"/>
            <a:chExt cx="2667240" cy="459720"/>
          </a:xfrm>
        </p:grpSpPr>
        <p:sp>
          <p:nvSpPr>
            <p:cNvPr id="51" name=""/>
            <p:cNvSpPr/>
            <p:nvPr/>
          </p:nvSpPr>
          <p:spPr>
            <a:xfrm>
              <a:off x="609480" y="2362320"/>
              <a:ext cx="2667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3000" y="1905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right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" name=""/>
          <p:cNvGraphicFramePr/>
          <p:nvPr/>
        </p:nvGraphicFramePr>
        <p:xfrm>
          <a:off x="2362320" y="1260360"/>
          <a:ext cx="106668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260360"/>
                    <a:ext cx="10666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22096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l       l      l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971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   -7      -6     -5     -4     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724280" y="1219320"/>
                <a:ext cx="2476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6477120" y="1905120"/>
            <a:ext cx="1752480" cy="533160"/>
            <a:chOff x="6477120" y="1905120"/>
            <a:chExt cx="1752480" cy="533160"/>
          </a:xfrm>
        </p:grpSpPr>
        <p:sp>
          <p:nvSpPr>
            <p:cNvPr id="61" name=""/>
            <p:cNvSpPr/>
            <p:nvPr/>
          </p:nvSpPr>
          <p:spPr>
            <a:xfrm>
              <a:off x="6477120" y="2438280"/>
              <a:ext cx="685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080" y="1905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3" name=""/>
          <p:cNvGraphicFramePr/>
          <p:nvPr/>
        </p:nvGraphicFramePr>
        <p:xfrm>
          <a:off x="7238880" y="1219320"/>
          <a:ext cx="10670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1219320"/>
                    <a:ext cx="10670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010280" y="2286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860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971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      6       7        8       9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98360" y="1171440"/>
                <a:ext cx="2495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4" name=""/>
          <p:cNvGrpSpPr/>
          <p:nvPr/>
        </p:nvGrpSpPr>
        <p:grpSpPr>
          <a:xfrm>
            <a:off x="1219320" y="1905120"/>
            <a:ext cx="2895120" cy="459720"/>
            <a:chOff x="1219320" y="1905120"/>
            <a:chExt cx="2895120" cy="459720"/>
          </a:xfrm>
        </p:grpSpPr>
        <p:sp>
          <p:nvSpPr>
            <p:cNvPr id="75" name=""/>
            <p:cNvSpPr/>
            <p:nvPr/>
          </p:nvSpPr>
          <p:spPr>
            <a:xfrm flipH="1">
              <a:off x="1219320" y="2362320"/>
              <a:ext cx="2895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722600" y="190512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" name=""/>
          <p:cNvGraphicFramePr/>
          <p:nvPr/>
        </p:nvGraphicFramePr>
        <p:xfrm>
          <a:off x="2660760" y="1219320"/>
          <a:ext cx="77472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1219320"/>
                    <a:ext cx="7747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962520" y="22096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0552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876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257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     4      5      6      7       8  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9280" y="3494160"/>
                <a:ext cx="3473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2514600" y="4191120"/>
            <a:ext cx="4647240" cy="533160"/>
            <a:chOff x="2514600" y="4191120"/>
            <a:chExt cx="4647240" cy="533160"/>
          </a:xfrm>
        </p:grpSpPr>
        <p:sp>
          <p:nvSpPr>
            <p:cNvPr id="85" name=""/>
            <p:cNvSpPr/>
            <p:nvPr/>
          </p:nvSpPr>
          <p:spPr>
            <a:xfrm>
              <a:off x="2514600" y="4724280"/>
              <a:ext cx="1818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15840" y="4191120"/>
              <a:ext cx="44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3581280" y="3505320"/>
          <a:ext cx="8445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505320"/>
                    <a:ext cx="844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267080" y="4572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95280" y="4038480"/>
            <a:ext cx="3276720" cy="533520"/>
            <a:chOff x="1295280" y="4038480"/>
            <a:chExt cx="3276720" cy="533520"/>
          </a:xfrm>
        </p:grpSpPr>
        <p:sp>
          <p:nvSpPr>
            <p:cNvPr id="91" name=""/>
            <p:cNvSpPr/>
            <p:nvPr/>
          </p:nvSpPr>
          <p:spPr>
            <a:xfrm>
              <a:off x="1295280" y="4572000"/>
              <a:ext cx="1282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8200" y="4038480"/>
              <a:ext cx="31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9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04920" y="289548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666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0481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7    -6    -5     -4     -3     -2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0" y="1260360"/>
                <a:ext cx="38671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1295280" y="1905120"/>
            <a:ext cx="6094800" cy="533160"/>
            <a:chOff x="1295280" y="1905120"/>
            <a:chExt cx="6094800" cy="533160"/>
          </a:xfrm>
        </p:grpSpPr>
        <p:sp>
          <p:nvSpPr>
            <p:cNvPr id="102" name=""/>
            <p:cNvSpPr/>
            <p:nvPr/>
          </p:nvSpPr>
          <p:spPr>
            <a:xfrm>
              <a:off x="1295280" y="2438280"/>
              <a:ext cx="2385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59160" y="1905120"/>
              <a:ext cx="58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4" name=""/>
          <p:cNvGraphicFramePr/>
          <p:nvPr/>
        </p:nvGraphicFramePr>
        <p:xfrm>
          <a:off x="3809880" y="1295280"/>
          <a:ext cx="116388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1163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5800" y="1828800"/>
            <a:ext cx="1599840" cy="533520"/>
            <a:chOff x="685800" y="1828800"/>
            <a:chExt cx="1599840" cy="533520"/>
          </a:xfrm>
        </p:grpSpPr>
        <p:sp>
          <p:nvSpPr>
            <p:cNvPr id="108" name=""/>
            <p:cNvSpPr/>
            <p:nvPr/>
          </p:nvSpPr>
          <p:spPr>
            <a:xfrm>
              <a:off x="685800" y="2362320"/>
              <a:ext cx="626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5280" y="1828800"/>
              <a:ext cx="15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80880" y="5638680"/>
            <a:ext cx="44960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5410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l     l     l     l     l     l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5791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1     2     3     4     5     6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4320" y="3602160"/>
                <a:ext cx="287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3352680" y="4724280"/>
            <a:ext cx="1218960" cy="533160"/>
            <a:chOff x="3352680" y="4724280"/>
            <a:chExt cx="1218960" cy="533160"/>
          </a:xfrm>
        </p:grpSpPr>
        <p:sp>
          <p:nvSpPr>
            <p:cNvPr id="115" name=""/>
            <p:cNvSpPr/>
            <p:nvPr/>
          </p:nvSpPr>
          <p:spPr>
            <a:xfrm flipH="1">
              <a:off x="4073760" y="5257440"/>
              <a:ext cx="4978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352680" y="4724280"/>
              <a:ext cx="121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righ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2971800" y="3581280"/>
          <a:ext cx="8445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581280"/>
                    <a:ext cx="844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809880" y="5105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4267080"/>
            <a:ext cx="9828720" cy="533520"/>
            <a:chOff x="685800" y="4267080"/>
            <a:chExt cx="9828720" cy="533520"/>
          </a:xfrm>
        </p:grpSpPr>
        <p:sp>
          <p:nvSpPr>
            <p:cNvPr id="121" name=""/>
            <p:cNvSpPr/>
            <p:nvPr/>
          </p:nvSpPr>
          <p:spPr>
            <a:xfrm>
              <a:off x="685800" y="4800600"/>
              <a:ext cx="3847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4200" y="4267080"/>
              <a:ext cx="9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8720" y="1828800"/>
            <a:ext cx="55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mmunitiv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5760" y="1200240"/>
                <a:ext cx="55512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2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ame the property that makes the statement tru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93600" y="2895480"/>
            <a:ext cx="46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dentity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2362320"/>
          <a:ext cx="24890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2489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068480" y="411480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ssociativ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96800" y="3519360"/>
                <a:ext cx="5703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145520" y="525780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vers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8120" y="4708440"/>
                <a:ext cx="3524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9907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1. A bookstore had a first-quarter profit of $342.60, a second-quarter loss of $78.35, a third-quarter loss of $127.40, and a fourth-quarter profit of $457.80. Did the store make a profit during the year?  Expl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3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ddition in real lif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914400" y="2819520"/>
          <a:ext cx="137160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1371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745720" y="525780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ubtract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981080" y="3886200"/>
          <a:ext cx="297180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6200"/>
                    <a:ext cx="29718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211480" y="2771640"/>
                <a:ext cx="2039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8280" y="2770200"/>
                <a:ext cx="2246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6248520" y="2819520"/>
          <a:ext cx="159516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819520"/>
                    <a:ext cx="15951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1904040" y="3123720"/>
            <a:ext cx="4743000" cy="1670400"/>
            <a:chOff x="1904040" y="3123720"/>
            <a:chExt cx="4743000" cy="1670400"/>
          </a:xfrm>
        </p:grpSpPr>
        <p:sp>
          <p:nvSpPr>
            <p:cNvPr id="151" name=""/>
            <p:cNvSpPr/>
            <p:nvPr/>
          </p:nvSpPr>
          <p:spPr>
            <a:xfrm>
              <a:off x="2136960" y="4273560"/>
              <a:ext cx="441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Add the negatives together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51" idx="1"/>
            </p:cNvCxnSpPr>
            <p:nvPr/>
          </p:nvCxnSpPr>
          <p:spPr>
            <a:xfrm flipH="1" rot="10800000">
              <a:off x="2132640" y="3123360"/>
              <a:ext cx="1067400" cy="1410480"/>
            </a:xfrm>
            <a:prstGeom prst="curvedConnector5">
              <a:avLst>
                <a:gd name="adj1" fmla="val -21423"/>
                <a:gd name="adj2" fmla="val 29614"/>
                <a:gd name="adj3" fmla="val -21423"/>
              </a:avLst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51" idx="3"/>
            </p:cNvCxnSpPr>
            <p:nvPr/>
          </p:nvCxnSpPr>
          <p:spPr>
            <a:xfrm flipH="1" flipV="1">
              <a:off x="5358960" y="3200040"/>
              <a:ext cx="1059840" cy="1334160"/>
            </a:xfrm>
            <a:prstGeom prst="curvedConnector5">
              <a:avLst>
                <a:gd name="adj1" fmla="val -21576"/>
                <a:gd name="adj2" fmla="val 29878"/>
                <a:gd name="adj3" fmla="val -21576"/>
              </a:avLst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p:graphicFrame>
        <p:nvGraphicFramePr>
          <p:cNvPr id="154" name=""/>
          <p:cNvGraphicFramePr/>
          <p:nvPr/>
        </p:nvGraphicFramePr>
        <p:xfrm>
          <a:off x="4876920" y="3886200"/>
          <a:ext cx="171432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886200"/>
                    <a:ext cx="17143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751760" y="3276360"/>
            <a:ext cx="5447880" cy="679680"/>
            <a:chOff x="1751760" y="3276360"/>
            <a:chExt cx="5447880" cy="679680"/>
          </a:xfrm>
        </p:grpSpPr>
        <p:sp>
          <p:nvSpPr>
            <p:cNvPr id="157" name=""/>
            <p:cNvSpPr/>
            <p:nvPr/>
          </p:nvSpPr>
          <p:spPr>
            <a:xfrm>
              <a:off x="2364480" y="3435480"/>
              <a:ext cx="41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dd the positives toge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1"/>
            </p:cNvCxnSpPr>
            <p:nvPr/>
          </p:nvCxnSpPr>
          <p:spPr>
            <a:xfrm rot="10800000">
              <a:off x="1751760" y="3276000"/>
              <a:ext cx="610200" cy="41976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7" idx="3"/>
            </p:cNvCxnSpPr>
            <p:nvPr/>
          </p:nvCxnSpPr>
          <p:spPr>
            <a:xfrm flipV="1">
              <a:off x="6508800" y="3276360"/>
              <a:ext cx="691200" cy="41976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230480" y="4684680"/>
                <a:ext cx="3835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1" name=""/>
          <p:cNvGraphicFramePr/>
          <p:nvPr/>
        </p:nvGraphicFramePr>
        <p:xfrm>
          <a:off x="5029200" y="4724280"/>
          <a:ext cx="194328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4724280"/>
                    <a:ext cx="1943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523880" y="5791320"/>
          <a:ext cx="327672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5791320"/>
                    <a:ext cx="3276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876920" y="5791320"/>
          <a:ext cx="193968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5791320"/>
                    <a:ext cx="1939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133640" y="6278400"/>
            <a:ext cx="69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Yes, the store made a profit of $594.6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9907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2. The price of a share of stock increased $3.00 on Monday, decreased $1.25 on Wednesday, and decreased $2.00 on Friday. Find the overall change in the price of a share of sto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7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ddition in real lif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1905120" y="2819520"/>
          <a:ext cx="87156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8715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525680" y="4572000"/>
            <a:ext cx="56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mbine the positives and neg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44920" y="2746440"/>
                <a:ext cx="1858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440240" y="2757600"/>
                <a:ext cx="1935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1904040" y="3123360"/>
            <a:ext cx="4743000" cy="1023120"/>
            <a:chOff x="1904040" y="3123360"/>
            <a:chExt cx="4743000" cy="1023120"/>
          </a:xfrm>
        </p:grpSpPr>
        <p:sp>
          <p:nvSpPr>
            <p:cNvPr id="179" name=""/>
            <p:cNvSpPr/>
            <p:nvPr/>
          </p:nvSpPr>
          <p:spPr>
            <a:xfrm>
              <a:off x="2136960" y="3625920"/>
              <a:ext cx="441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imes New Roman"/>
                </a:rPr>
                <a:t>Add the negatives together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9" idx="1"/>
            </p:cNvCxnSpPr>
            <p:nvPr/>
          </p:nvCxnSpPr>
          <p:spPr>
            <a:xfrm flipH="1" rot="10800000">
              <a:off x="2132640" y="3123360"/>
              <a:ext cx="1067400" cy="615240"/>
            </a:xfrm>
            <a:prstGeom prst="curvedConnector5">
              <a:avLst>
                <a:gd name="adj1" fmla="val -21423"/>
                <a:gd name="adj2" fmla="val 29566"/>
                <a:gd name="adj3" fmla="val -21423"/>
              </a:avLst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9" idx="3"/>
            </p:cNvCxnSpPr>
            <p:nvPr/>
          </p:nvCxnSpPr>
          <p:spPr>
            <a:xfrm flipH="1" flipV="1">
              <a:off x="5358960" y="3156480"/>
              <a:ext cx="1059840" cy="582120"/>
            </a:xfrm>
            <a:prstGeom prst="curvedConnector5">
              <a:avLst>
                <a:gd name="adj1" fmla="val -21576"/>
                <a:gd name="adj2" fmla="val 29826"/>
                <a:gd name="adj3" fmla="val -21576"/>
              </a:avLst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00200" y="4154400"/>
                <a:ext cx="3179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4800600" y="4191120"/>
          <a:ext cx="148104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191120"/>
                    <a:ext cx="14810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968480" y="5025960"/>
                <a:ext cx="29545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6" name=""/>
          <p:cNvGraphicFramePr/>
          <p:nvPr/>
        </p:nvGraphicFramePr>
        <p:xfrm>
          <a:off x="4876920" y="5029200"/>
          <a:ext cx="16761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029200"/>
                    <a:ext cx="1676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816640" y="5638680"/>
            <a:ext cx="26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 loss of $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2T16:57:51Z</dcterms:modified>
  <cp:revision>56</cp:revision>
  <dc:subject/>
  <dc:title>No Slide Title</dc:title>
</cp:coreProperties>
</file>